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A315-966A-4412-8333-9DC64BA9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97C8-B674-45C0-8329-47518236D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28E2-76F7-4917-A3CC-F76593E12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AF18-2777-483A-BC93-FCD1E1B37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8F5A-1704-47D3-9B9F-D19BF643B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280A-7CA6-4C57-8902-B3E17ED1A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E7C2-DF27-4270-8C0E-CC4687BB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9754-C1F8-438A-B04B-122E69B2E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BF8-0E0F-4065-8896-D837EC7A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D9C-AF85-4FD9-A21F-0837A931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560-2B1E-4E7A-9DF3-5A166569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D64-822D-4D88-94A0-2C57D65E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C80-E685-4877-A3DE-A14BB123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DE9-885C-4462-A927-23E16782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542-25E1-4AB3-92AD-73B49DAA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881-FE01-40B5-8606-4FF643E4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2BE-6099-439F-AD2D-724768FC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DA7-EA12-4F02-B7DF-5054B40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F79-D93B-49E4-A156-5023A180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D2F-6D3A-44FB-A38D-7A2E6DDF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473D-7CC2-46E9-92E7-A69DEAC0284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PICK A BALE OF COTTON"/>
          <p:cNvPicPr/>
          <p:nvPr/>
        </p:nvPicPr>
        <p:blipFill>
          <a:blip r:embed="rId1"/>
          <a:stretch/>
        </p:blipFill>
        <p:spPr>
          <a:xfrm>
            <a:off x="1619280" y="333360"/>
            <a:ext cx="6553080" cy="632772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468360" y="1844640"/>
            <a:ext cx="83534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ztec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starts with a priest cutting the persons chest and taking out thei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ut the heart in a vessel and hoped that it please the Gods and that the world would keep on 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Tongue Pierc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ongue piercings was a traditional Aztec and Mayan 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priests would pierce tongues then they would draw blood from it or pass rough cords through the hole to inflict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is was done to honour the G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ce on the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and political aspects of Aztecs society is based around their religious rit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ruling class was based on both ability and birth, a legal system and a strong moral code that gave great importance to family and communit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2 major aspects to the Aztec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280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first, is that they developed sophisticated methods of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y believe that the Gods could ensure them a plentiful harvest if they performed rit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second, is that they were warring people, seeking victims to sacrifice to their blood-hungry g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arriors were among the elite of Azte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agle warriors were adorned with feathers and Jaguar warriors wore the skin of oce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The human search for 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religious beliefs justified war and provided unity to their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dominated politics and therefore determined their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lot of human sacrificing going on so then they had to make sure that they could expand on their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ztecs and their mus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95280" y="115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http://www.youtube.com/watch?v=Vc-XgOR0p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ShockwaveFlash1"/>
          <p:cNvGraphicFramePr/>
          <p:nvPr/>
        </p:nvGraphicFramePr>
        <p:xfrm>
          <a:off x="324000" y="1268280"/>
          <a:ext cx="864072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640720" cy="5329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s of the 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creation story is that the dual God Ometecuhtli/Omecihuatl created itself. This God then had 4 children which came to represent the 4 directions north, south, east and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God represents good and bad, chaos and order and male and fem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4 Gods began to create water and other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s of the 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God’s created a sea monster called Cipact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the God’s were creating the world, creations would fall into the sea and be eaten by Cipact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God’s defeated the creature and pulled it in four directions. From this the universe wa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13 heavens stretched into her head. The earth was created in the middle, and her tail reaches down to the under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al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tec beliefs were based in their perception of nature, its time space, and cy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liefs were varied and v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lieved in heaven and hell, in fact they believed in multiple heavens and 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lieved that the sun wrestled with darkness each n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belief in the afterlife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belief was that how you died depended on where you w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; If an individual died in a war, they would immediately go to the sun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n individual died for a reason that was no specified, they would have to travel through the underworld before reaching the resting place of th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ernatural powers and de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ztecs worshipped  nearly 1000 God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prominent of the Gods was the sun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ztec’s praised their Gods extensively. They would sacrifice tens of thousands of people to please the 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ost celebrated religious days is the O’Nothing Day where priests would get dressed up as the Gods and go to an extinct volcano and perform human sacrif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tec G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tec rulers were seen as the embodiment of the Aztec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main Gods w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itzilopochtli, Tlaloc, and Tezcatlip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Gods inclu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lacoya -- goddess of 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Chiconahui – a domestic fertility godd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Citlalicue – a creator of the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Cipactonal – god of astrology, sorcery (witchcr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Oxomoco – goddess of astr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Xochiquezal – goddess of female sexuality, prostitutes, pl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Patecatl – god of healing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peyote (a hallucinoge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tec 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itual and ceremony helps the Aztecs come closer to th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rituals aren’t done properly then direct consequences will be enfor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rituals include human sacrifices, tongue pier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79280" y="11592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http://www.youtube.com/watch?v=SvGngrBIk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ShockwaveFlash2"/>
          <p:cNvGraphicFramePr/>
          <p:nvPr/>
        </p:nvGraphicFramePr>
        <p:xfrm>
          <a:off x="468360" y="1268280"/>
          <a:ext cx="8496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496360" cy="504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2:54:02Z</dcterms:created>
  <dc:creator>Administrator</dc:creator>
  <dc:description/>
  <dc:language>en-US</dc:language>
  <cp:lastModifiedBy>Chantelle</cp:lastModifiedBy>
  <dcterms:modified xsi:type="dcterms:W3CDTF">2010-08-11T10:57:11Z</dcterms:modified>
  <cp:revision>28</cp:revision>
  <dc:subject/>
  <dc:title>Slide 1</dc:title>
</cp:coreProperties>
</file>